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6F5-83CB-4453-BAF2-8A87A878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5EA-B82B-4B3E-B114-C4B26D53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4E8-580B-4BDA-B1A5-BFC33E34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E8E-DC62-40F0-A7CE-87E97652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5A22-1DD3-4964-BCA4-FBDD72CD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1F28-C09A-4696-8340-4D853D8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6BEB-38B1-411A-83BC-C1B0C6A7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9732-F746-49E5-BD11-46E97542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3A6-201A-463A-AF5A-20EC15ED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8FA6-FAE9-4ED2-B899-34A62805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621E-F0C7-4EB1-BF17-8933816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C8B-144F-4D12-8D9F-5F98A997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71CF-6097-4738-9C65-C7B825F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807F-2756-4579-9085-53E8FE4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9D24-1311-4450-B3C7-8518A7FC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D2BD-B2AF-407D-AE5A-BEB57643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91EA-4F25-4745-BCBB-90E4AD63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D1F-3C74-42D7-900D-6B08AB27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CDC-EB82-486C-A2E3-5F5B2341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56E-1D1E-4BDB-8BD1-7901BE1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2E2-6B70-4604-9F86-AD812B12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7D1-65EA-45BF-BCDC-CAE3FEEE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223-D55C-491D-BFA7-95694488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431-6212-4B58-9E57-6881084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2AA8-7F08-4F66-AADC-4666AADA6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0A0F-E839-485C-A0EC-E9516AA88C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Mexican_drug_war" TargetMode="External"/><Relationship Id="rId3" Type="http://schemas.openxmlformats.org/officeDocument/2006/relationships/hyperlink" Target="http://www.syracuse.com/newsflash/index.ssf?/base/international-14/122871118886590.xml&amp;storylist=topstorie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xican Drug W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y K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7000" y="4340160"/>
            <a:ext cx="38070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xico basically middlema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ly kicked off after the arrest of Miguel Gallardo, who dominated the business, in 1989 because gangs fought over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val gangs fought each other ever si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 I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ous deaths and injuries, including civilian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uption within the polic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6-President Calderon decided to put an end to drug trafficking by sending 6,500 troops to Michoac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hting still going 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iz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62,000 weapons (AR-15s, AK-47s, grenade launchers, armor piercing snipers) seized since 199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less tons of drugs-price of cocaine went up 24% in 37 st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70 private plans confis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m submar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838080"/>
            <a:ext cx="2438640" cy="895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480" y="304920"/>
            <a:ext cx="2108160" cy="1581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934320" y="4267080"/>
            <a:ext cx="1585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ent N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 gave Mexico nearly $200 million to fight the war against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 new bodies were found in Michoacan, a violence ridden city in Mex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e force increased, 25,000 troops stationed at Michoac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en.wikipedia.org/wiki/Mexican_drug_w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syracuse.com/newsflash/index.ssf?/base/international-14/122871118886590.xml&amp;storylist=topst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rea Hera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29:52Z</dcterms:created>
  <dc:creator>Jay Kim</dc:creator>
  <dc:description/>
  <dc:language>en-US</dc:language>
  <cp:lastModifiedBy>Jay Kim</cp:lastModifiedBy>
  <dcterms:modified xsi:type="dcterms:W3CDTF">2008-12-08T11:56:32Z</dcterms:modified>
  <cp:revision>1</cp:revision>
  <dc:subject/>
  <dc:title>Mexican Drug War</dc:title>
</cp:coreProperties>
</file>